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D478-95DA-41A6-B4DD-3A0D338C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C46D-A13B-4C84-8631-ED03CF0B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3400" y="593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3258-F31C-49E0-AB3C-65A0EE82D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F14C-95B3-4360-8B2D-C3752B12E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7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A763-8231-474C-8943-7A65C91AE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33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57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33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57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89D3-8B8F-4F5E-BBA8-2B742B6DA8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0C9E-746C-496F-B28F-6B9443561F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4921-2A5F-4D7E-9049-B5331268F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672C-0776-41DD-A7FC-9F7C89DF0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A3DB-7E77-46C4-A515-73B3C0C1C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CD8D-A652-4FF3-A706-C0CF84B67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28D0-E2AC-44DD-8A9A-23289FFFD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7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9DEB-3AD9-4D7F-ABE6-5C77DBF97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BC2A-39EB-4719-86D4-97AE09543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0243-CC07-45E5-B1E5-C14533BE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son 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523880"/>
            <a:ext cx="2438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e chateau de Harrison ford. Il est g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0" descr="http://hookedonhouses.net/wp-content/uploads/2011/09/Harrison-Ford-Calista-Flockhart-buy-new-house-in-LA.jpg"/>
          <p:cNvPicPr/>
          <p:nvPr/>
        </p:nvPicPr>
        <p:blipFill>
          <a:blip r:embed="rId1"/>
          <a:stretch/>
        </p:blipFill>
        <p:spPr>
          <a:xfrm>
            <a:off x="2895480" y="2590920"/>
            <a:ext cx="6023160" cy="40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http://images.askmen.com/celebs/men/entertainment/30_harrison_fordlarge_image-1.jpg"/>
          <p:cNvPicPr/>
          <p:nvPr/>
        </p:nvPicPr>
        <p:blipFill>
          <a:blip r:embed="rId2"/>
          <a:stretch/>
        </p:blipFill>
        <p:spPr>
          <a:xfrm>
            <a:off x="6705720" y="609480"/>
            <a:ext cx="138888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67652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salle de sejour. Il a une piano bel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hookedonhouses.net/wp-content/uploads/2011/09/Harrison-Ford-LA-house-piano.jpg"/>
          <p:cNvPicPr/>
          <p:nvPr/>
        </p:nvPicPr>
        <p:blipFill>
          <a:blip r:embed="rId1"/>
          <a:stretch/>
        </p:blipFill>
        <p:spPr>
          <a:xfrm>
            <a:off x="2895480" y="1905120"/>
            <a:ext cx="6248520" cy="38862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>
            <a:off x="6705720" y="3581280"/>
            <a:ext cx="1372320" cy="534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520" y="15238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cuisine. elle est lumier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hookedonhouses.net/wp-content/uploads/2011/09/Harrison-Ford-LA-house-kitchen.jpg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amber a’ cou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5235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chamber a’ coucher. Il y a la terrese b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hookedonhouses.net/wp-content/uploads/2011/09/Harrison-Ford-Calista-Flockhard-master-bedrm.jpg"/>
          <p:cNvPicPr/>
          <p:nvPr/>
        </p:nvPicPr>
        <p:blipFill>
          <a:blip r:embed="rId1"/>
          <a:stretch/>
        </p:blipFill>
        <p:spPr>
          <a:xfrm>
            <a:off x="3962520" y="3098880"/>
            <a:ext cx="51814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2743200"/>
            <a:ext cx="2133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salle de bain. Regarde la bain g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hookedonhouses.net/wp-content/uploads/2011/09/white-bathroom-zebra-print-chairs.jpg"/>
          <p:cNvPicPr/>
          <p:nvPr/>
        </p:nvPicPr>
        <p:blipFill>
          <a:blip r:embed="rId1"/>
          <a:stretch/>
        </p:blipFill>
        <p:spPr>
          <a:xfrm>
            <a:off x="2362320" y="1798560"/>
            <a:ext cx="67816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er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560" y="1371600"/>
            <a:ext cx="281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terrase. Regarde les une me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hookedonhouses.net/wp-content/uploads/2011/09/back-covered-porch.jpg"/>
          <p:cNvPicPr/>
          <p:nvPr/>
        </p:nvPicPr>
        <p:blipFill>
          <a:blip r:embed="rId1"/>
          <a:stretch/>
        </p:blipFill>
        <p:spPr>
          <a:xfrm>
            <a:off x="3505320" y="2362320"/>
            <a:ext cx="5257800" cy="3800520"/>
          </a:xfrm>
          <a:prstGeom prst="rect">
            <a:avLst/>
          </a:prstGeom>
          <a:ln w="0">
            <a:noFill/>
          </a:ln>
        </p:spPr>
      </p:pic>
      <p:cxnSp>
        <p:nvCxnSpPr>
          <p:cNvPr id="67" name="Straight Arrow Connector 5"/>
          <p:cNvCxnSpPr/>
          <p:nvPr/>
        </p:nvCxnSpPr>
        <p:spPr>
          <a:xfrm flipH="1">
            <a:off x="4876200" y="3732840"/>
            <a:ext cx="1600920" cy="99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7"/>
          <p:cNvCxnSpPr/>
          <p:nvPr/>
        </p:nvCxnSpPr>
        <p:spPr>
          <a:xfrm>
            <a:off x="6476760" y="3733920"/>
            <a:ext cx="1524600" cy="1372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y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523520"/>
            <a:ext cx="3276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e jardin. Regarde le pisene g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hookedonhouses.net/wp-content/uploads/2011/09/Harrison-Ford-Calista-Flockhard-LA-house-back-pool.jpg"/>
          <p:cNvPicPr/>
          <p:nvPr/>
        </p:nvPicPr>
        <p:blipFill>
          <a:blip r:embed="rId1"/>
          <a:stretch/>
        </p:blipFill>
        <p:spPr>
          <a:xfrm>
            <a:off x="3505320" y="2819520"/>
            <a:ext cx="5257800" cy="376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72" name="Straight Arrow Connector 5"/>
          <p:cNvCxnSpPr/>
          <p:nvPr/>
        </p:nvCxnSpPr>
        <p:spPr>
          <a:xfrm flipH="1">
            <a:off x="4419360" y="4799520"/>
            <a:ext cx="1676880" cy="7628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 pour le regarder! even though you had no choice.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4952880"/>
            <a:ext cx="769608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susan.lowd\Local Settings\Temporary Internet Files\Content.IE5\UVZ6II3H\MC900233403[1].wmf"/>
          <p:cNvPicPr/>
          <p:nvPr/>
        </p:nvPicPr>
        <p:blipFill>
          <a:blip r:embed="rId1"/>
          <a:stretch/>
        </p:blipFill>
        <p:spPr>
          <a:xfrm>
            <a:off x="2438280" y="1600200"/>
            <a:ext cx="41911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33:27Z</dcterms:created>
  <dc:creator>TMOIT</dc:creator>
  <dc:description/>
  <dc:language>en-US</dc:language>
  <cp:lastModifiedBy>TMOIT</cp:lastModifiedBy>
  <dcterms:modified xsi:type="dcterms:W3CDTF">2011-11-17T01:40:32Z</dcterms:modified>
  <cp:revision>18</cp:revision>
  <dc:subject/>
  <dc:title>Slide 1</dc:title>
</cp:coreProperties>
</file>